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34BC-A4C0-4905-8FE7-4ABF07DA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DFC-44B5-4FCE-B41B-31050359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F07E-D6BC-4E8D-A7E7-893473C5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E055-59FB-4CD5-8F7C-F9305838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9ADF-B51F-44AD-9AD7-85E5FF59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2820-8183-44ED-B371-56B23355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4EA6-7230-4EEA-BA96-328A9231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3B11-34D9-474F-A153-0CD2D4ED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54FD-4610-47CB-A22F-08D421E5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A336-7BD2-400C-A42F-78ECB80F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81F5-663A-4E09-88C8-EDF89459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72F6-D12C-4607-A421-C686BB9A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B873-F411-4784-9FF9-D5DB37DAD53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BF3E-3967-4320-B0EB-A11F9564CB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Transmission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65480" y="2558880"/>
            <a:ext cx="114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ical Characteristics of Transmission Lin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nsmission Line Los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pp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electr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ation or in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ropagation of DC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ltage Down a Lin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hysical Explanation of Propag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understand characteristics of transmission line with ac voltage applied, infinitely long transmission line analyzed with dc voltage appli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elocity of Propag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rrent moving down the line, its electric and magnetic fields are propagated down the li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ropagation of DC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ltage Down a Lin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lay L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ay signal by some specific amount of tim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veleng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ance traveled by wave during a period of one cyc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nresonant Lin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veling DC Wa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resonant 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ne of infinite length or as one terminated with resistive load equal in ohmic value to characteristic impedance of lin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veling wa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oltage and current waves; move in phase with one another from source to loa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nresonant Lin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veling AC Wa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ttle difference between charging of line when ac voltage applied to it and when dc voltage appli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sonant Transmission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C Applied to an Open-Circuited L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nant 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mission line terminated with impedance not equal to characteristic imped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cause impedances are equal, applied voltage divided equally between source and li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sonant Transmission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cident and Reflected Wa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tage on open-circuited wire equal to source voltage, and current is zer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sonant Transmission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C Applied to a Short-Circuited L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tage reflection from open circuit is in phase, while from short circuit it is out of pha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rrent reflection from open circuit is out of phase, while from short circuit it is in pha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sonant Transmission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nding Wa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n 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smat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cident and reflected waves interac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ing w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mains in one position, varying only in amplitud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sonant Transmission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nding Wa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rted 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of-phase reflection that occurs for current on open line and voltage on shorted li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ed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oltage divided by curr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ypes of Transmission Lin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wo-Wire Open L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mission line between antenna and transmitter or antenna and receiv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e construc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wisted Pai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insulated wires twisted to form flexible line without use of spac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sonant Transmission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arter-Wavelength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inversion of voltage and current every quarter waveleng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vity filter or selective cavity extends idea of quarter-wavelength coaxial stub filter to high-power ope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tanding Wave Rati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nding Wa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antaneous vector addition of incident-wave amplitude with that of reflected wave as result of impedance mismatch between transmission line and lo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fl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r when impedance mismat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tanding Wave Rati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gree of Mismat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lection coefficient, voltage standing-wave ratio, return los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tanding Wave Rati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oltage standing wave ratio (VSW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tio of maximum voltage to minimum of standing wave on a li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nding wave ratio (SW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qual to ratio of maximum current to minimum curr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tanding Wave Rati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ffect of Mismat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at 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ect condition of no reflection when load purely resistive and equal to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er the VSWR, the greater is mismatch on li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tanding Wave Rati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arter-Wavelength Transform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physically a transformer; offers property of impedance transform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ectrical Leng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e can be miles long physically and electrically short at low frequenc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Smith Char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nsmission Line Imped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ed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tantly changing along line and equal to ratio of voltage to current at given poi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mith chart presents solution to impedance-matching problems posed by complex sources and complex loa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Smith Char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nsmission Line Imped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mith chart impedance-matching tool for transmission lin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phical Smith chart used to represent network analyzer solu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Smith Char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mith Cha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rmaliz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viding all impedances by characteristic impedance of the lin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iprocal of impedance defined as admittance and reciprocal of reactance is called suscept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Smith Char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mith Cha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utility as impedance-matching calculat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s for simple conversion of impedance to admittance, and vice vers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ypes of Transmission Lin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shielded Twisted Pair (UT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d for computer networking; CAT6 and CAT5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2-1: T568A/T568B Wi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Smith Char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mith Cha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i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ue standing wave representation on Smith char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alculations with transmission lines pertain to matching load to line and keeping VSWR as low as possi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short-circuited stubs prevalent in matching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ansmission Line Appl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crete Circuit Sim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mission line sections: used to simulate inductance, capacitance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on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lu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balanced-to-balanced transform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ansmission Line Appl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nsmission Lines as Fil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rter-wave section of transmission line used as efficient filter or suppressor of even harmonic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ansmission Line Appl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otted Li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ion of coaxial line with lengthwise slot cut in outer conductor; pickup probe inserted into slo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SWR, generator frequency, unknown load imped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ansmission Line Appl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-Domain Reflectomet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rt-duration pulse transmitted into a li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ed with oscilloscop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mpedance Matching and Network Analysi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twork analyz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equipment to characterize linear impedance characteristics of devices under test (DUT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alar network analyz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sures magnitude of DUT imped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mpedance Matching and Network Analysi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ector network analyzer (VN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s impedance magnitude and phase characteristics of DU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attering or S-parame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ear transmission and reflection characteristics of signals applied to DU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mpedance Matching and Network Analysi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attering matri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s all voltages incident to and reflected from all por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edance analysis not confined to microwave system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mpedance Matching and Network Analysi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ector network analyz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of three receivers and two-port “test set” that separates forward and reflected components of applied signals through directional coupl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2-1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T568A/T568B Wirin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24" descr="tab12_01.jpg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39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ypes of Transmission Lin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shielded Twisted Pair (UT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d for computer networking; CAT6 and CAT5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2-2: Different Categories for Twisted-Pair C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2-2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Different Categories for Twisted-Pair Cabl3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6" name="Picture 2" descr="tab12_02.jpg"/>
          <p:cNvPicPr/>
          <p:nvPr/>
        </p:nvPicPr>
        <p:blipFill>
          <a:blip r:embed="rId1"/>
          <a:stretch/>
        </p:blipFill>
        <p:spPr>
          <a:xfrm>
            <a:off x="228600" y="777960"/>
            <a:ext cx="8686800" cy="49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ypes of Transmission Lin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ielded Pai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allel conductors separated from each other, and surrounded by solid dielectri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ypes of Transmission Lin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axial Li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gid or air; flexible or soli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lanced/Unbalanced Li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20600" indent="-21456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plitude of electrical signal by center conductor in coaxial line measured with respect to grounded outer conduct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20600" indent="-21456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me current flows in each wire but 180° out of pha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ical Characteristics of Transmission Lin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wo-Wire Transmission L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ical character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truction of lin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istic Imped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edance measured at any point on line would be the sam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Thomas Dunn</cp:lastModifiedBy>
  <dcterms:modified xsi:type="dcterms:W3CDTF">2013-05-14T05:45:01Z</dcterms:modified>
  <cp:revision>4</cp:revision>
  <dc:subject/>
  <dc:title>Slide 1</dc:title>
</cp:coreProperties>
</file>